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E0E-03A3-4354-977D-F532B3DC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7CD-6003-4AC5-A25D-6A21E7D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2C5-ED9B-4F52-AFA0-DB6269B4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E1A-DC15-4E46-8C56-088B0EEF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C139-1DA8-405C-A156-F279431D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AFAC-B732-43A4-A0EF-63E1D48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E1AE-B630-4DBC-BF12-AF8A90A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C8EE-41A9-46BA-B185-8E156DF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7100-7DB4-4323-8E1E-7984ED8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173-F663-4501-A48B-AC9FD01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D282-8D6D-4B8A-A4E2-49ADB6A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01D-445F-47CD-B854-1EB03DF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BA81-81C9-44DB-AFE5-F6811E5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731-6F00-46EF-9C7E-05320D2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A962-CC1C-4CFB-B147-40EF0BB8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C83-34D3-446A-BAB8-8DD6A200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5B50-5FBE-4C95-924B-0AE1D660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F77-F51E-4D2D-ACC6-8862671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81D-A448-431C-BFDD-E4D888BD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3AE-B97D-4D0F-A148-B7A4D14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001-EF5E-4BD4-82F7-85160EB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F86-FA24-42EA-A26C-665F84A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554-4FB5-4D6A-977E-C281B27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8EA-3E23-45A8-BEE4-3DF9E7B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E7BC-F3B8-4FFE-9A6A-4502F7C9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100-7D64-44EE-9590-9E6DDB395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1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Updating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May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 – Thursday 9:00-10:00; Tuesday and Thursday 5:00-6:00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8-05-10T13:05:38Z</dcterms:modified>
  <cp:revision>53</cp:revision>
  <dc:subject/>
  <dc:title>ACG 5405 Intro</dc:title>
</cp:coreProperties>
</file>